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media/image10.gif" ContentType="image/gif"/>
  <Override PartName="/ppt/media/image6.png" ContentType="image/png"/>
  <Override PartName="/ppt/media/image7.png" ContentType="image/png"/>
  <Override PartName="/ppt/media/image8.png" ContentType="image/png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BA67-E363-4E50-BECD-9B0594339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CA59-1962-4405-98BF-9E696273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2DE0-FDAC-4424-A192-AB5DBFF5B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4863-60CD-4ADA-B06E-E801BE716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C3C41-AFAB-41E7-86BE-1594895E1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0C02-1B42-481A-A8FC-061298F2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1221-3EA7-4801-84A4-02A4AD3A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1DDD-B005-4B28-B3A2-2AF60F20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A3CB-A5DB-4BE6-8C0F-11365F92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ECA4-458F-4096-B641-DE36C77C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1B18-ED62-4AEC-A88F-2B4F57A3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7A26-468E-4882-998A-2031E5D5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A09F-B658-4F9E-9C4F-0406D1B7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00C6-328B-4D46-9800-BEB91C1F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FEE1-AA25-4EEA-96F9-AAF26D00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B3F9-A7D9-4EF0-BA42-AFC3AF021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A2BA-FB10-4531-BD9B-5639074B0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28DB-600C-49A6-BA8E-C4878524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1759-3F1C-4BEF-A2C9-AC39A9DE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B424-BB9A-423B-A736-A372BD67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4971-436D-48D4-8BC5-84979348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036B-6070-443C-B5CA-892FE1E8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C4CB-3E56-48B4-A1B5-4FAFEAC8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2A64-DA8D-488F-88AB-D0BFF9A4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AB9A-B61C-4178-87CF-93D89F177D8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FE91-D4EC-48E4-B40B-76E347D8968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smiles.rc-mir.com/smile.68299.html" TargetMode="External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smiles.rc-mir.com/smile.bereich0_136_60.html" TargetMode="External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gif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63640" y="260280"/>
            <a:ext cx="633744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3366"/>
                </a:solidFill>
                <a:latin typeface="Monotype Corsiva"/>
              </a:rPr>
              <a:t>        </a:t>
            </a:r>
            <a:r>
              <a:rPr b="1" lang="en-US" sz="8000" spc="-1" strike="noStrike">
                <a:solidFill>
                  <a:srgbClr val="0000cc"/>
                </a:solidFill>
                <a:latin typeface="Monotype Corsiva"/>
              </a:rPr>
              <a:t>Урок </a:t>
            </a:r>
            <a:endParaRPr b="0" lang="en-US" sz="8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cc"/>
                </a:solidFill>
                <a:latin typeface="Monotype Corsiva"/>
              </a:rPr>
              <a:t>русского языка</a:t>
            </a:r>
            <a:endParaRPr b="0" lang="en-US" sz="8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cc"/>
                </a:solidFill>
                <a:latin typeface="Monotype Corsiva"/>
              </a:rPr>
              <a:t>       </a:t>
            </a:r>
            <a:r>
              <a:rPr b="1" lang="en-US" sz="8000" spc="-1" strike="noStrike">
                <a:solidFill>
                  <a:srgbClr val="0000cc"/>
                </a:solidFill>
                <a:latin typeface="Monotype Corsiva"/>
              </a:rPr>
              <a:t>3 класс</a:t>
            </a:r>
            <a:endParaRPr b="0" lang="en-US" sz="8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87280" y="4941720"/>
            <a:ext cx="8209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Презентация составлена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учителем начальных классов Копцовой Е.А. </a:t>
            </a:r>
            <a:r>
              <a:rPr b="1" lang="de-DE" sz="1200" spc="-1" strike="noStrike">
                <a:solidFill>
                  <a:srgbClr val="003366"/>
                </a:solidFill>
                <a:latin typeface="Monotype Corsiva"/>
              </a:rPr>
              <a:t>elenakopcova@yandex.ru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МОУ «Верейская СОШ» Орехово-Зуевского района Московской област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611280" y="2205000"/>
            <a:ext cx="2695320" cy="1390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627280" y="633240"/>
            <a:ext cx="651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ак запомним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—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род мужской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Гонит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ягкий Знак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 метлой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Женский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род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—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аоборот,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ягкий Знак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в друзья берёт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0" y="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Замени словосочетание одним словом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Объясни написание слов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773360"/>
            <a:ext cx="889308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Близкий приятель, друг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Сила, могущество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Часть суток от вечера до утра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Двенадцать часов ночи, середина ночи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Молодые люди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Человек, лечащий больных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320"/>
                            </p:stCondLst>
                            <p:childTnLst>
                              <p:par>
                                <p:cTn id="3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5128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85128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268360" y="260280"/>
            <a:ext cx="41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Проверка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84360" y="1052640"/>
            <a:ext cx="5473800" cy="90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Товарищ (м.р.),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мощ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ь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( ж.р.),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оч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(ж.р.),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олноч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ь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ж.р.),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молодеж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(ж.р.),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рач          (м.р.)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      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 rot="20782200">
            <a:off x="0" y="0"/>
            <a:ext cx="2016000" cy="17463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050920" y="0"/>
            <a:ext cx="6553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ыполни упр. 453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о заданию учебника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16360" y="148428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Проверка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3429000"/>
            <a:ext cx="856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133720"/>
            <a:ext cx="9396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Шалаш(м.р.), чиж(м.р.), мыш</a:t>
            </a:r>
            <a:r>
              <a:rPr b="1" lang="en-US" sz="4000" spc="-1" strike="noStrike">
                <a:solidFill>
                  <a:srgbClr val="cc0066"/>
                </a:solidFill>
                <a:latin typeface="Times New Roman"/>
              </a:rPr>
              <a:t>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000" spc="-1" strike="noStrike">
                <a:solidFill>
                  <a:srgbClr val="cc0066"/>
                </a:solidFill>
                <a:latin typeface="Times New Roman"/>
              </a:rPr>
              <a:t>ж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р.),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ёрш(м.р.), грач(м.р.), вещ</a:t>
            </a:r>
            <a:r>
              <a:rPr b="1" lang="en-US" sz="4000" spc="-1" strike="noStrike">
                <a:solidFill>
                  <a:srgbClr val="cc0066"/>
                </a:solidFill>
                <a:latin typeface="Times New Roman"/>
              </a:rPr>
              <a:t>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000" spc="-1" strike="noStrike">
                <a:solidFill>
                  <a:srgbClr val="cc0066"/>
                </a:solidFill>
                <a:latin typeface="Times New Roman"/>
              </a:rPr>
              <a:t>ж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р.),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лащ(м.р.), ноч</a:t>
            </a:r>
            <a:r>
              <a:rPr b="1" lang="en-US" sz="4000" spc="-1" strike="noStrike">
                <a:solidFill>
                  <a:srgbClr val="cc0066"/>
                </a:solidFill>
                <a:latin typeface="Times New Roman"/>
              </a:rPr>
              <a:t>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000" spc="-1" strike="noStrike">
                <a:solidFill>
                  <a:srgbClr val="cc0066"/>
                </a:solidFill>
                <a:latin typeface="Times New Roman"/>
              </a:rPr>
              <a:t>ж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р.), мяч(м.р.),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ож(м.р.), лещ(м.р.), камыш(м.р.),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овощ(м.р.)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600"/>
                            </p:stCondLst>
                            <p:childTnLst>
                              <p:par>
                                <p:cTn id="3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20782200">
            <a:off x="755640" y="620280"/>
            <a:ext cx="2232000" cy="1933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84360" y="2997360"/>
            <a:ext cx="7848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читаем правила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 учебнике на стр. 170 и 17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680"/>
                            </p:stCondLst>
                            <p:childTnLst>
                              <p:par>
                                <p:cTn id="4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268360" y="0"/>
            <a:ext cx="41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Вывод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4000" y="620640"/>
            <a:ext cx="88200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а конце существительных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женского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ода  после шипящих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пишется Ь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знак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а конце существительных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мужского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ода после шипящих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Ь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знак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не пишется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50920" y="2349360"/>
            <a:ext cx="8497800" cy="46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cc"/>
                </a:solidFill>
                <a:latin typeface="Monotype Corsiva"/>
              </a:rPr>
              <a:t>Задание на дом.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Выучить правила</a:t>
            </a:r>
            <a:r>
              <a:rPr b="1" lang="en-US" sz="6600" spc="-1" strike="noStrike">
                <a:solidFill>
                  <a:srgbClr val="003366"/>
                </a:solidFill>
                <a:latin typeface="Monotype Corsiva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на стр.</a:t>
            </a:r>
            <a:r>
              <a:rPr b="1" lang="en-US" sz="6600" spc="-1" strike="noStrike">
                <a:solidFill>
                  <a:srgbClr val="003366"/>
                </a:solidFill>
                <a:latin typeface="Monotype Corsiva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170, 171, упр.457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 rot="304800">
            <a:off x="6012000" y="0"/>
            <a:ext cx="2868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60"/>
                            </p:stCondLst>
                            <p:childTnLst>
                              <p:par>
                                <p:cTn id="4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0" y="2781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  <a:hlinkClick r:id="rId3"/>
              </a:rPr>
              <a:t>http://smiles.rc-mir.com/smile.bereich0_136_60.htm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-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нимация книг, еж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9144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                           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Источни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рок составлен на основе книги М.В. Сергеево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Веселые подсказки. Русский язык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т странный Мягкий Знак». Издат.»Белый город»2004г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3789360"/>
            <a:ext cx="777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ебник Т.Г. Рамзаева. Русский язык. 3к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дательство «Дрофа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 rot="10800000">
            <a:off x="259920" y="5013360"/>
            <a:ext cx="888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meinfish.ru/ersch.php- картинка ерш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 rot="10800000">
            <a:off x="178920" y="5589720"/>
            <a:ext cx="818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lenagold.ru/ -картинка карандаш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 rot="10800000">
            <a:off x="250560" y="6165720"/>
            <a:ext cx="818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ачано на сайте http://www.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russisch-fuer-kinder.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11280" y="476280"/>
            <a:ext cx="7993080" cy="66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66"/>
                </a:solidFill>
                <a:latin typeface="Monotype Corsiva"/>
              </a:rPr>
              <a:t>              </a:t>
            </a:r>
            <a:r>
              <a:rPr b="1" lang="en-US" sz="6600" spc="-1" strike="noStrike">
                <a:solidFill>
                  <a:srgbClr val="0000cc"/>
                </a:solidFill>
                <a:latin typeface="Monotype Corsiva"/>
              </a:rPr>
              <a:t>Тема: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cc"/>
                </a:solidFill>
                <a:latin typeface="Monotype Corsiva"/>
              </a:rPr>
              <a:t> </a:t>
            </a:r>
            <a:r>
              <a:rPr b="1" lang="en-US" sz="6600" spc="-1" strike="noStrike">
                <a:solidFill>
                  <a:srgbClr val="0000cc"/>
                </a:solidFill>
                <a:latin typeface="Monotype Corsiva"/>
              </a:rPr>
              <a:t>«Мягкий знак на конце существительных после         шипящих».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763640" y="1557360"/>
            <a:ext cx="5915160" cy="3400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908000" y="5157720"/>
            <a:ext cx="60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cc"/>
                </a:solidFill>
                <a:latin typeface="Monotype Corsiva"/>
              </a:rPr>
              <a:t>о Мягком Знаке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8000" y="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cc"/>
                </a:solidFill>
                <a:latin typeface="Monotype Corsiva"/>
              </a:rPr>
              <a:t>Сказка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5472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оя ночЬ,вещЬ и рожЬ,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оя дочЬ, печЬ, брошЬ,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ои дорогие, красивые,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ам нужна моя помощЬ,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Любимые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Выпишите</a:t>
            </a: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слова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с мягким знаком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на конце слова и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подчеркните его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788000" y="2565360"/>
            <a:ext cx="4133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60"/>
                            </p:stCondLst>
                            <p:childTnLst>
                              <p:par>
                                <p:cTn id="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6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400"/>
                            </p:stCondLst>
                            <p:childTnLst>
                              <p:par>
                                <p:cTn id="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160"/>
                            </p:stCondLst>
                            <p:childTnLst>
                              <p:par>
                                <p:cTn id="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95280" y="1125360"/>
            <a:ext cx="84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астрогались добрые существительные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               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ЖЕНСКОГО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ода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 окончанием в корне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Ч, Щ, Ж, Ш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 согласились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дружить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 Мягким Знаком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567720" y="99720"/>
            <a:ext cx="8012520" cy="13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Запишите слова и объясните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             их написание.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900000" y="2349360"/>
            <a:ext cx="374328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иш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ь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еч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ь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ыш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ь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елоч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ь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749480" y="2349000"/>
            <a:ext cx="3770280" cy="37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луш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ь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ож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ь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ич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ь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рож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ь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492360" y="3141720"/>
            <a:ext cx="5362560" cy="2305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50920" y="0"/>
            <a:ext cx="806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0"/>
            <a:ext cx="828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ой товарищ, врач, скрипач,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Ключ, гараж, кумач и грач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Хочу я с вами поиграть,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Хочу в конце у вас стоять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537372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Выпишите</a:t>
            </a: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слова,оканчивающиеся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на шипящие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187280" y="836640"/>
            <a:ext cx="7201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765000"/>
            <a:ext cx="8820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о сильные существительные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МУЖСКОГО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ода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не захотели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ерять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вою твёрдость. Они сказали Мягкому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знаку: « Пожалуйста, никогда не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иставай к нам»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68360" y="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Отгадай загадки, напиши отгадки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Объясни их правописание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268280"/>
            <a:ext cx="54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Под соснами, под ёлками лежит мешок с иголкам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421000"/>
            <a:ext cx="5076720" cy="31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Драчун и забияка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е знает страха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живет в воде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осит иглы на спин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508640"/>
            <a:ext cx="766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Умный Ивашка, красная рубашка, Где пройдет –коснётся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589720"/>
            <a:ext cx="47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ам след остаётс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84720" y="1413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Ёж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80000" y="256536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ёрш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544500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карандаш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7236000" y="1268280"/>
            <a:ext cx="1028520" cy="981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7238880" y="5300640"/>
            <a:ext cx="1905120" cy="1238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6540480" y="2565360"/>
            <a:ext cx="260352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200"/>
                            </p:stCondLst>
                            <p:childTnLst>
                              <p:par>
                                <p:cTn id="2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05:11:50Z</dcterms:created>
  <dc:creator>User</dc:creator>
  <dc:description/>
  <dc:language>en-US</dc:language>
  <cp:lastModifiedBy>Polina Sorel</cp:lastModifiedBy>
  <dcterms:modified xsi:type="dcterms:W3CDTF">2009-07-25T15:58:15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